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36F0-4E80-478D-9AD7-89081EEDD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8452-32AB-4C2E-8255-C66BB054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D04D9-381B-46A3-905C-3C64D713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6D8396-460E-47C6-A242-B5052C3F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C3B6A9-16F6-4461-A21C-BCB3143A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0C869-9292-461A-B3A0-FEA5792E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6957C-1450-4FFB-AD49-F3EACF39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2C3D0-E763-4A73-A69E-426DE4AC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8A3B78-9B87-40F5-9FB8-699BFDB3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DE652-093F-4025-A624-9CF5FEF0C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02E04-B28D-4AFC-B4B8-12BFE4AAA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D5BF7A-D1F8-49EF-A92A-FE739DD5D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D0E8-9F8B-4929-A033-3C9CC8B01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36C97E-D9DC-4530-A61E-FA9D075F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0E2727-9E62-4D2B-95B4-16ABB417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308BE4-A95A-4394-9582-DA324B72F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D7CCF1-9E9F-438C-8DE1-A2F5C304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42C31-FE69-46E6-8EB5-D812FDA7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37309C-7CD1-46F6-8194-FCC2F2BA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C327A-7C67-4F7E-A50B-437ECC4CD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20F263-EE55-4626-A45F-E020A5AF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0F07A9-B1C0-4019-A820-0B4DB855A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BAB0E5-0B3D-43F9-99AF-96C533142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1C82-310D-4E1C-9CD4-F00FEB5EB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5217C5-CC9A-42F3-ABC9-C1F2D99F9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0DEFB-5D99-4CD9-9E98-343C02F77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3371C6-2123-427F-9E65-1F1A95ED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D46F9C-00CC-4D0C-82F3-57A6114BF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DE5A5-0B7D-414A-B4FC-99F447B3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4D8C2-1CBA-406F-8D65-9673749A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021CD4-0983-464B-8566-A3C47023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C6B7E-CE2B-4BEF-9309-40D90E29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1A734-E994-400C-ADBD-155AE449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4AE52-A5A1-42F5-909E-67C7461D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B82DA-B8B8-4C70-90E8-5BD6181A4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954E2E-99B3-4A75-9200-46FA41B2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13014B-143B-45C5-B8FC-DA33C5E96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80F28-80E3-4FD7-ACE8-DB54108C0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6D77AD-7653-4CA8-A580-4A272EC83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AEB3AE-550D-4AB1-B795-65BD492D9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40B9B3-25DA-4B5F-B9E3-70BDFA6E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6E842A-5E55-4C0A-9A68-06E9ADC5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8B55A9-B0AF-43CD-9D07-8283D041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5D4CE5-4320-495F-9A02-92279386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86F7E8-08FF-4BDD-9400-04507B38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8894-E280-4537-9034-C7B17CC8A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55983-951B-4929-A101-41676CAA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9E3397-E131-407B-AB4C-31E3986A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EC4A41-04ED-4405-A9BA-844F3840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088A01-B829-4A61-BADA-11BEEF576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0BDEDA-247E-43B7-A429-F455A27C9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C5E940-320B-4694-8964-8CC14E954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0FA50D-D5D2-4340-8A53-7D489E20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7FA67F-A079-4C8E-9735-31C39AD8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F3A62E-E56F-4689-8E27-03E32C6E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5B0A59-B5A3-43D8-931E-2F87CB4F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9B0E-9B6B-4823-A938-FC6A6242F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88DDF0-6798-40B7-B605-C026BAC7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805F75-63B3-46B4-BCDA-359A5D4B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1208DC-8EE6-4F60-BD0B-C5B6D702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D4D998-B19F-4D5D-B839-DA7F212E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78F9B1-39FD-4C02-9D3F-3F634965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3D0118-6D9C-4EC9-ADCA-114FAD20C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CB1712-11AF-41AD-A428-701B8F255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4F3F85-9A7A-4E40-A41D-78E701C04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8252B1-93C2-4248-AEBC-2E3CABBB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9E667E-C66C-4C05-A4FF-C191D949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B091F-07BC-4BA0-BFFD-D2F780C2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08C903-9E5C-4BD4-B827-E4FACFB5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4BEFA1-2C22-422F-B32E-6646D844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B38E2A-BB29-40CE-BAE4-64A8F1C6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CF21BB-F297-4D0E-84E5-71C4E0B0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221E07-4FDD-42C6-8F66-9F68A304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E1F725-8F76-4E71-B919-6C019BFDC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A0DC6E-D82C-4774-B2A1-602BD6144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2CB251-F06F-481B-9F9B-7F301D513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033B4D-D6D2-4036-83AA-C0A45987D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92ECC6-DC85-46BE-B925-BD88700A8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24732-33AA-4652-8F16-8207CB08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E911E3-978C-42E3-B0A1-DF58C393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C71052-9FB9-4C5F-8043-33B5FE5B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28624F-CDB8-4C5B-8C63-F05F23FC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32BB66-D202-47CB-9F83-A02925DF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CF0F8D-A48F-48F3-A29C-8F54B0BD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384242-23DA-4D7A-9902-6BCFA708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1BFCC4-EA11-4730-8536-A3D13BA2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4B15BA-11F4-48C4-A65C-17F4084B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018B6E-6847-4099-BBB0-D21056CD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CC042A-5D3F-4DD4-B35F-8BB055E70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56DB-3162-4D79-AA3F-42A35E569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FD511D-BB64-44FB-9446-C2685802A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9CC76E-514A-4ADA-86CB-A8DA55E1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D50B88-46E9-45F6-85B7-524FC75F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6814DD-3004-488D-8207-65792D2D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B28AFC-72A8-4BBD-B383-188C9B17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789F41-B1CF-4626-83CC-363FAE88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AC166D-F008-4ADF-BB00-E74D3481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30223A-0E1B-4B40-8EB5-FC3C9D19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1F5E49-6269-48C3-836C-0A6C1868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402983-9402-4C15-92AB-F78B36917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08677-CB0A-4AE3-9F90-13A165CF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B2FEB9-2A1B-4A3F-AC76-7AC8B4BF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496C81-C3FC-4981-8876-D01ECFE32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C25853-C69B-4DF4-91D5-3035878E3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F19335-FFFA-4A8E-AFF5-B988C6C39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B1EE4F-099B-48DA-8376-41173163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08395E-D516-480D-92D8-F9A78C1A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2159B6-5192-470F-9001-5BD8EE93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B3DF7A-F260-4E75-87D2-F4149113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7B8822-20EE-42A5-A36D-A83E6A328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7FDF3A-1B42-4062-A733-9912E77ED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290F-B972-4021-9C66-EEDA2348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A7C2-F91B-4B3F-924E-4636C1A7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0F71DE-A7E1-4418-A41E-D81A2CA4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84151E-7714-409F-AFB7-430BD274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6932FC-BF7A-48A1-8562-ACA701B4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A12E7C-BED2-4899-89CD-FD9B7B61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B310B8-EA42-413E-9BD2-683CD289C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6ECDDB-AE76-4D56-AAA1-CD5A5EFD2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3BA9AA-BCD4-4174-B301-659E99F9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1298FD-3AF6-4048-B8BB-333DFE9B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E479A3-4C42-4268-B0B2-67C3645E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296A37-09E1-46BF-BF84-A61C4C93D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251C-8768-401A-893F-C4804E16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3F96E4-A3E4-4519-A294-A04D2CB3B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977B5F-A9A1-4A58-8C5A-298D8940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E180E2-B0A2-46ED-A88B-7C879772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00CA5B-6290-48AF-A6F4-8FB81AE8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29E8D0-C7E8-4C0E-8FE5-1B48E8DF8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FE41B5-ECC4-45B3-BBBC-9F0F91C40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52AF26-AB1F-45E8-953C-036362022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53C504-CA2E-4B96-8F19-0A2A380C8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D110AE-C91E-45E4-A3BC-C69440E1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30A654-DB16-43B5-AACF-2B05F056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4394-1417-4DAA-AF34-006B6D51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C8BEE3-6A55-4C4B-ADBE-2EC1A241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F1E6BC-481D-4C65-9AA1-4712AD37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B0C5C6-5307-48CA-9B4F-5B192465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EF8DCD-5FC7-46CD-B3E8-C10AC16B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576BE6-C573-42F6-BECD-A11C8679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A0F477-1E3E-415D-A730-B32ACC99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87BA6D-9D36-42B8-900B-393C213F3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8A3423-5C8E-42ED-9EBE-3B42774C0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261720-B162-4748-8EEE-AA0BE5F8B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79DA56-1E91-4813-9B9F-4EDEFE090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7735-33E3-4A4B-B007-87160C385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F08E40-8082-4D17-ADD5-444EC5CF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3A80D0-D096-4CB3-ABE1-5D9F48D0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1EE800-0BF6-4612-BC7B-5A11ABF4F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AED557-6A8A-46B2-905B-52533DCD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75F3C9-C9ED-4A33-B956-4E10A193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1EC69A-9ED3-4557-8194-ED1732DF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EAAFBB-7E19-4CFF-9E53-2ED5903C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24EFBD-B143-4400-9F78-BA1AB0A3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C8D7F7-12A6-4A5C-AAA9-F9BD8E21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3DF20A-0232-46B0-A232-DF4466819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1F27-03DC-4AA1-BD4C-D256D3B8E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1C43CA-F1B0-422F-9869-CADC539FF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7FFF92-1EC0-4066-B607-98F8A2469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797C3D-CB83-4854-B21F-EE1B1406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7EE369-B705-4248-9B16-DABDC48C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97C383-EDC6-4AA4-A65A-7FCFEB3FE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355DAC-FF81-47F8-BF08-2DC00397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F4B66F-A323-4E2F-9E5D-528C99BC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9A42EF-F346-44F2-8E3C-0A7D930B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720F63-B28F-4B38-B662-99740A4A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9E70FD-241B-4CFE-89C6-5A8DD927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083B5-0487-422B-B0E9-D2B5C8529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EAE3C2-386C-44E8-A15A-E56BB70F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38BED9-8907-4316-A85C-60FDBF5BE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00E1F2-FC8C-46B8-9F14-81306562F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8E7021-E0DE-4D4F-A1FA-DE14FD41B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05FE339-F268-4A9A-87B6-83DC5EDF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185F9A-012F-4981-B715-3BE97C57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3CBE2B-5E88-47D6-9F03-5FDD5525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2C5968-B1B6-4A6A-A4FC-01AAE26F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6817DF-D19E-4068-BAAC-DC595DC9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596FD8-5B8E-4DEB-A25A-42AB98ED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8B257-AA31-495B-8E7D-F3F5CDCB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745DA2-EFBB-4991-AE21-C43F837AE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F41AA4-ACDD-4A7D-8A58-7C7990AE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B5A86F-1B0A-4A79-912E-75BC2322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15191C-70C3-4E2B-9DF8-FD70A32F3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0496AC-264D-4992-8382-BCC976D70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4B4A92-CAB7-4703-9F8C-FB66B0A87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86F54F-DD8B-4FAD-B6D2-2A2674EB9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B0C586-7C2C-4277-B3BD-75309911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3629AF-A23C-411B-B394-548083FE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913D59-4C2B-4A7F-8D2F-76882AF6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52155-CDEB-4A91-B242-4E2CD67D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C72B37-4D71-490D-9DC7-925AE9801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2264A1-5B12-4FD9-A60D-92F2E85E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A8EA7A-F0CF-45DF-9FED-CD9FB765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37BA3E-A081-4933-98D0-66158017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A5B4E4-A900-4487-9E85-2D405CF0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AA01B5-F8A4-4C63-9908-186BC6DD8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D580F6-3E15-42FF-BD6A-8933B2C95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B810BD-1F66-4C0D-9950-AD7C708C8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97531C-0A9D-4ED8-B485-484C6225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9D25BC6-F808-42EC-A917-D07E917D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8AA60-0E39-4704-92B4-40EFECDF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C02FBF-0713-47C6-9D5D-02A142BA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4D3740-2DA3-427B-8C74-74D303FD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481A12-D961-4720-BFD3-AFDD5059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C127C8-C4C9-4119-B34B-34CDCA93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062842-7907-4022-9AA9-12A4C019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8F211D-3988-4F14-A559-6BD749C9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2C251A-127C-41B2-BCD7-F2B428C2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137FC9-A5FE-4D03-9774-FA9B5F325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6BFFCF-9E0A-4645-8470-C7EBD0AE4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B2015-48AE-43CB-BAF0-981D87C5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CEC5-E32D-4729-A5BC-A51189F6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B9385-0B44-488B-A5D0-EA780F56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F70CA-46FE-480B-ADF9-2F2BAC45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1F3AA-0912-4786-8363-4BB7B787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031B3-54B8-4E4E-B8F9-B53142DC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17F36-BFA0-454C-B835-062FB383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202E6-8B0E-47A9-9B82-0B61C50AA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6EA83-C3C3-449E-A64C-23BA7B9B7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56B79-97EB-4065-875C-1055B9885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DE415-9497-48E2-B579-5DF9CF95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C7EA1-127C-4BD6-9828-D3F39388D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630A-B535-47B6-A4BC-113231A6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641A7-2F1C-4959-BDCC-607817EB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665EC-FDF7-4F22-8F5E-7B5B5AF7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90BAE-23E0-4C9A-A8A5-197E9CE7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232A16-0AD4-474E-8F45-32B4091B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FE201-F694-48C2-9F54-2F25AB03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36560-2524-4AF9-8973-A4C89E6F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8CDEC-F22A-473B-B208-CCBE2CCA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95F1B-EACC-4888-B458-586D445F2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5CCB3-CD2F-4B63-B0A7-9E08CC41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1C7E7-11B6-4907-AC26-5BD844D2B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C797-15B1-4641-8AAD-03A6D7D8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62A0C-D529-4395-AB44-188D7BB5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DAF39-6E69-464C-AD75-ABD9C397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A8B30-F614-4FF0-8C85-E01FF6D8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F2A83-8B39-45F7-B6CB-94180FC3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D49F8-E2B9-476C-A01C-7CCA0575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63FDC-2179-4C97-A02C-58F7F98FB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E1E8B-62FE-4AB2-9EE6-2A936EC2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D8D4B-F96B-4402-8692-2F7D1260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D44B5-0AAA-45CF-AB0E-0ADC6042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83F8F-CA58-462D-9DF5-0EBD1B828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4A61-211F-4189-B433-64493041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9FC2E-FBC7-405F-A3D2-432285A80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D7D829-662E-4C1D-826A-C607E6B61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8B968-193A-4989-8647-9D163452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6D1A7-73C6-4814-9304-402034A7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26007-29BC-47E9-BFEC-07FF4AB2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33F0A-035D-4609-BEDC-9CD5BFC3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09D60-93F4-4503-B51E-14300689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CC4DC-8C2B-45D3-987D-8430C034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39D92-75A2-47ED-A5A9-38079607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B5AFF-698D-4275-A3D7-01CEA55C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1883-6D21-4CF1-AB9F-5732A6B1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4C9E5-4E18-4166-AF11-67F8AF57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8826B2-45AD-4322-9E44-07ED80BC1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69121-D1EE-4F17-A741-6741B63C2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FFAE8-CE6C-49ED-9FB0-9EA097D2A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AFAE2-DAA8-4ED3-ADE2-3B5831CF6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897CD-A974-45DC-9802-BD299429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DF7D9-E3D0-453B-A097-4BE51E67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89475-8115-40DA-95E8-73D3BED2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93E12-56DB-4653-A06D-E023BA4B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44950-4846-4420-AB09-D4BF2413F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1967-C62D-4ACD-8809-D3C1999BA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BCF7A-E14C-4F0E-84A5-C5B90F6B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7573C-2635-4196-97F4-8AFBA7C8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4588F-4306-4498-9EF9-1149149CC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F2B13-8440-4ABF-A1D0-297FA6AA2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EC3EB-0C0F-4460-9BB5-B2B0A56C7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EC869-322E-4BFF-A0B0-1A4A3C2DF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414D9-EAD8-4153-990F-BB1491FB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2563F-0D08-465E-83B1-C4C75B07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9169B9-73BA-4870-A058-1043C09E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47D7C7-F9A2-4FC4-9943-3EA3DFAB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A62D-4AA8-423F-BE15-394BECA53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DBCB1-3F67-4365-BD2C-85BF976A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DB21E-58C3-421F-B990-76F80C0B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5E551-9163-4D34-9C83-37EF801D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A8FD0B-4899-4DB4-944F-9EF22FAA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03CD1-ADA9-4D2A-84DA-A87556C9D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DD99E-FC53-464D-AB2D-71B63F42C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D571A-AA72-47DF-8B5B-99A6550D9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B62247-479D-424B-87C6-6B50539A7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3DB92-AD8F-41EC-B120-00DD16AD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29DFE-C90B-4D66-8DD4-4DF12CA9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7224-ED31-4AD7-A0E6-8A430129EFE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24064-C085-4899-8F4D-D81764679C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B92F-FE14-409D-8207-B484B5F39F8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1853-AEE5-49EF-986A-2B531A719F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DD62-2F9F-4C43-B298-2C1D91F570E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2365-55E7-446A-9163-2FA0A69EDFC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5C29-980C-4A2D-AE9D-6ED2EDFB800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4F6D-1CAD-4B98-B712-4A84F44B62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0A26-6C0E-4B34-83FF-7D637CBCEAC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E4BF-0A26-4839-B9D7-8B4C476180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65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5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5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5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660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66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5FBB-3088-4620-848E-1FD696A31F3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ABBAD-EAEE-48DA-B733-5AD1A43BB6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4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1111-DAFD-4083-9192-B6DB807BB11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4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4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1BF6-0606-4E82-BB6C-1D4334631D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4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47ED-4D8B-4AB2-AEA4-93EB01F6D5D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4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4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545D-BDC0-49B3-9A63-2046B92EC8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4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5307-A5B5-43BA-9CB6-EED9D5670CB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5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0FB4-6C1D-443B-881C-6C5D46CBC50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2355-3E90-46EF-87BE-3294E772D714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5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60FA-75E4-4836-8537-4331C25BEA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5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AC6A-9C1F-402D-B480-BC692DDC9B4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5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5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844A-C723-4C48-8298-C3B4F9EFDF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5012-350B-4249-91F8-AAEB37634D9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0342-16F6-40BF-8E26-C20A0FA459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6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3e00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5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6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7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8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09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10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13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4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5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6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7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8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19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0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1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22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3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126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127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8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129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>
                    <a:gd name="textAreaLeft" fmla="*/ 0 w 243720"/>
                    <a:gd name="textAreaRight" fmla="*/ 244080 w 24372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0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>
                    <a:gd name="textAreaLeft" fmla="*/ 0 w 428400"/>
                    <a:gd name="textAreaRight" fmla="*/ 428760 w 42840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1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>
                    <a:gd name="textAreaLeft" fmla="*/ 0 w 804960"/>
                    <a:gd name="textAreaRight" fmla="*/ 805320 w 80496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2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>
                    <a:gd name="textAreaLeft" fmla="*/ 0 w 1208160"/>
                    <a:gd name="textAreaRight" fmla="*/ 1208520 w 12081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3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>
                    <a:gd name="textAreaLeft" fmla="*/ 0 w 269280"/>
                    <a:gd name="textAreaRight" fmla="*/ 269640 w 26928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5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>
                    <a:gd name="textAreaLeft" fmla="*/ 0 w 288360"/>
                    <a:gd name="textAreaRight" fmla="*/ 288720 w 28836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>
                    <a:gd name="textAreaLeft" fmla="*/ 0 w 285120"/>
                    <a:gd name="textAreaRight" fmla="*/ 285480 w 28512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137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5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EC34-1151-47F6-ADF5-1C88E1354C7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5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AFDED-AE05-45B2-BBAE-06FD92FBDC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2F34-6F0B-40CA-8C30-C84E9AF85D88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85343-46B4-4D44-9BEB-2DCCB3759D6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E6FA-30FA-4AF7-B836-12FAE9BB8D4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6C29-8D59-47CE-A3A0-70552F8C38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 type="dt" idx="6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84F6E-6715-494A-AEC6-F7E0F205627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 type="ftr" idx="6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 type="sldNum" idx="6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DC85-DBE3-4494-A078-DD06EAB892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 type="dt" idx="7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3EAF-7E76-401B-B24C-2A0E7A62F33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 type="ftr" idx="7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 type="sldNum" idx="7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8F58-0D9A-42B4-B206-ED8DF2D6C8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76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7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8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5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86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59360"/>
                <a:gd name="textAreaBottom" fmla="*/ 459720 h 4593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19760"/>
                <a:gd name="textAreaBottom" fmla="*/ 420120 h 41976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9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90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5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1472-E9CB-4465-AD92-303AFF7C772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44B0-398A-41E7-8118-1AC82F1E8D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2AC48-1565-4851-807B-58760FE8D16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8C6B-8571-408C-A860-4FA25548F8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851A-7E68-4C09-848B-DF9CC4583E0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ACC5-D65F-4C9F-8646-61B79E0240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3C07-8692-426B-9CC0-0C06E755108B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2679-576E-42F0-AA5F-C25CE81893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85A10-BC6F-4C0E-A8AE-F884482E71E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8528-B875-4579-98F8-5C6BC7B24DE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6B4A-6FBE-4103-8687-C69ABA2A9D3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8C2F-2D25-44B9-AAC5-16C9160A8C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868F-840D-4B74-AB67-7B379604AB3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втор Фамилия Имя Отчество. Учитель (предмет). Регали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69957-02AA-41E0-8D4E-79C1101803E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Прямоугольник 1" descr=""/>
          <p:cNvPicPr/>
          <p:nvPr/>
        </p:nvPicPr>
        <p:blipFill>
          <a:blip r:embed="rId2"/>
          <a:stretch/>
        </p:blipFill>
        <p:spPr>
          <a:xfrm>
            <a:off x="1865160" y="950760"/>
            <a:ext cx="5828040" cy="2603520"/>
          </a:xfrm>
          <a:prstGeom prst="rect">
            <a:avLst/>
          </a:prstGeom>
          <a:ln w="0">
            <a:noFill/>
          </a:ln>
        </p:spPr>
      </p:pic>
      <p:sp>
        <p:nvSpPr>
          <p:cNvPr id="1123" name="TextBox 2"/>
          <p:cNvSpPr/>
          <p:nvPr/>
        </p:nvSpPr>
        <p:spPr>
          <a:xfrm>
            <a:off x="3155400" y="468324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4" name="Picture 2" descr="C:\Users\SunnyBeam\Pictures\sch009.png"/>
          <p:cNvPicPr/>
          <p:nvPr/>
        </p:nvPicPr>
        <p:blipFill>
          <a:blip r:embed="rId3"/>
          <a:stretch/>
        </p:blipFill>
        <p:spPr>
          <a:xfrm>
            <a:off x="227160" y="2492280"/>
            <a:ext cx="3600360" cy="3205080"/>
          </a:xfrm>
          <a:prstGeom prst="rect">
            <a:avLst/>
          </a:prstGeom>
          <a:ln w="0">
            <a:noFill/>
          </a:ln>
        </p:spPr>
      </p:pic>
      <p:sp>
        <p:nvSpPr>
          <p:cNvPr id="1125" name="TextBox 3"/>
          <p:cNvSpPr/>
          <p:nvPr/>
        </p:nvSpPr>
        <p:spPr>
          <a:xfrm>
            <a:off x="5540760" y="3141720"/>
            <a:ext cx="18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ля глаз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TextBox 4"/>
          <p:cNvSpPr/>
          <p:nvPr/>
        </p:nvSpPr>
        <p:spPr>
          <a:xfrm>
            <a:off x="4553640" y="3789360"/>
            <a:ext cx="409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о положено. Требования СанПи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7" name="TextBox 5" descr=""/>
          <p:cNvPicPr/>
          <p:nvPr/>
        </p:nvPicPr>
        <p:blipFill>
          <a:blip r:embed="rId4"/>
          <a:stretch/>
        </p:blipFill>
        <p:spPr>
          <a:xfrm>
            <a:off x="414360" y="5742000"/>
            <a:ext cx="7699320" cy="884160"/>
          </a:xfrm>
          <a:prstGeom prst="rect">
            <a:avLst/>
          </a:prstGeom>
          <a:ln w="0">
            <a:noFill/>
          </a:ln>
        </p:spPr>
      </p:pic>
      <p:sp>
        <p:nvSpPr>
          <p:cNvPr id="1128" name="Нижний колонтитул 7"/>
          <p:cNvSpPr/>
          <p:nvPr/>
        </p:nvSpPr>
        <p:spPr>
          <a:xfrm>
            <a:off x="0" y="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Picture 2" descr="C:\Users\SunnyBeam\Pictures\мяч1.png"/>
          <p:cNvPicPr/>
          <p:nvPr/>
        </p:nvPicPr>
        <p:blipFill>
          <a:blip r:embed="rId2"/>
          <a:stretch/>
        </p:blipFill>
        <p:spPr>
          <a:xfrm>
            <a:off x="3995640" y="5445000"/>
            <a:ext cx="901800" cy="90036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2" descr="C:\Users\SunnyBeam\Pictures\мяч1.png"/>
          <p:cNvPicPr/>
          <p:nvPr/>
        </p:nvPicPr>
        <p:blipFill>
          <a:blip r:embed="rId3"/>
          <a:stretch/>
        </p:blipFill>
        <p:spPr>
          <a:xfrm>
            <a:off x="7147080" y="544500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2" descr="C:\Users\SunnyBeam\Pictures\мяч1.png"/>
          <p:cNvPicPr/>
          <p:nvPr/>
        </p:nvPicPr>
        <p:blipFill>
          <a:blip r:embed="rId4"/>
          <a:stretch/>
        </p:blipFill>
        <p:spPr>
          <a:xfrm>
            <a:off x="3995640" y="907920"/>
            <a:ext cx="936720" cy="9367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3" descr=""/>
          <p:cNvPicPr/>
          <p:nvPr/>
        </p:nvPicPr>
        <p:blipFill>
          <a:blip r:embed="rId5"/>
          <a:stretch/>
        </p:blipFill>
        <p:spPr>
          <a:xfrm>
            <a:off x="1042920" y="4797360"/>
            <a:ext cx="949320" cy="947880"/>
          </a:xfrm>
          <a:prstGeom prst="rect">
            <a:avLst/>
          </a:prstGeom>
          <a:ln w="0">
            <a:noFill/>
          </a:ln>
        </p:spPr>
      </p:pic>
      <p:sp>
        <p:nvSpPr>
          <p:cNvPr id="1133" name="Нижний колонтитул 5"/>
          <p:cNvSpPr/>
          <p:nvPr/>
        </p:nvSpPr>
        <p:spPr>
          <a:xfrm>
            <a:off x="3556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лифиренко Е.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БОУ СОШ №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4" name="мне мама тихо говорила.mid" descr=""/>
          <p:cNvPicPr/>
          <p:nvPr/>
        </p:nvPicPr>
        <p:blipFill>
          <a:blip r:embed="rId6"/>
          <a:stretch/>
        </p:blipFill>
        <p:spPr>
          <a:xfrm>
            <a:off x="25092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16" dur="2000" fill="hold"/>
                                        <p:tgtEl>
                                          <p:spTgt spid="1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6912E-006 C 0.21059 -4.46912E-006 0.38212 -0.17534 0.38212 -0.39185 C 0.38212 -0.60883 0.21059 -0.78394 -3.33333E-006 -0.78394 C -0.21076 -0.78394 -0.38177 -0.60883 -0.38177 -0.39185 C -0.38177 -0.17534 -0.21076 -4.46912E-006 -3.33333E-006 -4.46912E-006 Z">
                                      <p:cBhvr>
                                        <p:cTn id="20" dur="3000" fill="hold"/>
                                        <p:tgtEl>
                                          <p:spTgt spid="1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C 0.21511 -3.7037E-006 0.39046 0.11042 0.39046 0.24746 C 0.39046 0.38496 0.21511 0.49607 5E-006 0.49607 C -0.21511 0.49607 -0.38924 0.38496 -0.38924 0.24746 C -0.38924 0.11042 -0.21511 -3.7037E-006 5E-006 -3.7037E-006 Z">
                                      <p:cBhvr>
                                        <p:cTn id="24" dur="2000" fill="hold"/>
                                        <p:tgtEl>
                                          <p:spTgt spid="1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1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4.07407E-006 C 0.06076 0.11713 0.1783 0.14953 0.26146 0.07268 C 0.35937 -0.0176 0.33993 -0.15625 0.3217 -0.23357 L 0.29288 -0.33311 C 0.275 -0.41112 0.25764 -0.55139 0.36823 -0.65348 C 0.43923 -0.71875 0.56909 -0.69815 0.62986 -0.58102 C 0.69062 -0.46412 0.65955 -0.29468 0.58854 -0.22917 C 0.47795 -0.12709 0.38541 -0.19815 0.33698 -0.24792 L 0.27743 -0.31899 C 0.22951 -0.36899 0.13923 -0.4419 0.04132 -0.35162 C -0.04202 -0.27477 -0.06077 -0.1169 3.05556E-006 4.07407E-006 Z">
                                      <p:cBhvr>
                                        <p:cTn id="28" dur="3000" fill="hold"/>
                                        <p:tgtEl>
                                          <p:spTgt spid="1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500" fill="hold"/>
                                        <p:tgtEl>
                                          <p:spTgt spid="1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" dur="246326" fill="hold"/>
                                        <p:tgtEl>
                                          <p:spTgt spid="1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3:40:25Z</dcterms:created>
  <dc:creator>Admin</dc:creator>
  <dc:description/>
  <dc:language>en-US</dc:language>
  <cp:lastModifiedBy>каб_12</cp:lastModifiedBy>
  <dcterms:modified xsi:type="dcterms:W3CDTF">2014-02-10T10:23:09Z</dcterms:modified>
  <cp:revision>6</cp:revision>
  <dc:subject/>
  <dc:title>Презентация PowerPoint</dc:title>
</cp:coreProperties>
</file>